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276-F79A-461C-B346-F240DE92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9CB-93B9-4B1C-8780-594278C4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6BC-6183-482B-A051-2FF02F8A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921-755B-4BB2-816B-29140526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2F5-5D8B-47D9-98BF-F7BFD54C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13E-67E0-4803-8323-33DC026F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60A-CA48-42C1-BFC8-815703CD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F76-A013-45F8-A881-B4E36A1E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D95-7315-4F13-9311-AEAF8A0B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DAA-2095-422F-8C3D-22263062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17C-BDE2-4EAF-BDE4-C39A376C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F0A-25FA-4580-93F5-8BBE17B7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AFDE-F8F2-4BF6-A03B-C86B814EB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0504d"/>
            </a:gs>
            <a:gs pos="100000">
              <a:srgbClr val="d7b93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6b2</cp:lastModifiedBy>
  <dcterms:modified xsi:type="dcterms:W3CDTF">2012-06-18T11:11:49Z</dcterms:modified>
  <cp:revision>30</cp:revision>
  <dc:subject/>
  <dc:title>SALARIUL</dc:title>
</cp:coreProperties>
</file>